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ED1-0440-4629-A6D9-C306EB1B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4CE-1970-486F-A539-2B46E6D0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F65-5C1D-4F84-B87E-11DDA0DF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E03-D67F-4323-AEC2-F366A3FC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436-963D-424B-85B0-1736C0F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C2D-FBBC-4026-92AB-7B9034EB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EE4-C9BB-41D7-9A45-73DA365A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526-8E23-448B-A622-C5FD5423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018-3DEC-4E82-BBB7-F38C80E8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48B-E832-46FA-80A4-41DE4BA9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EB6-CCE9-408F-BEB8-B10C2464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A06-08CE-4EFA-A8A8-B1E29739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5162-4F33-43EB-8AA8-35460F26B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886520" cy="142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AU" sz="6000" spc="-1" strike="noStrike">
                <a:solidFill>
                  <a:srgbClr val="000000"/>
                </a:solidFill>
                <a:latin typeface="Calibri"/>
              </a:rPr>
              <a:t>who is the arsenal coach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arsene wanger</a:t>
            </a:r>
            <a:r>
              <a:rPr b="0" lang="en-AU" sz="6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Alex Ferguson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ck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ro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4288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lick 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lick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The arsenal museum is where?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the arsenal museum at Manchester stadiu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Emirates Stadiu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Click 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ck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The arsenal clock is wher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Arsenal stadiu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In Liverpool stadiu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rong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The arsenal soccer clouth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Red and whit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Blue and black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2:24:26Z</dcterms:created>
  <dc:creator>user</dc:creator>
  <dc:description/>
  <dc:language>en-US</dc:language>
  <cp:lastModifiedBy>user</cp:lastModifiedBy>
  <dcterms:modified xsi:type="dcterms:W3CDTF">2009-10-04T23:44:29Z</dcterms:modified>
  <cp:revision>9</cp:revision>
  <dc:subject/>
  <dc:title>Slide 1</dc:title>
</cp:coreProperties>
</file>